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F0D-E98F-4139-8D29-4AC938D9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CFA-BE7F-471D-BF53-50F5D458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BCB-B685-4FAE-B833-B47E2FB2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CF4-7339-467A-92AD-C15C7FB2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AAA-EA87-4FB4-BF4E-BC1875AB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275-7CD9-4C82-A1B6-68AE9A91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221-5CD0-4639-B062-9014C3A0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C14-6F2A-45C2-B80B-09E3D010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EC6-9972-4FD0-9C4F-5B61A3E4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4C2-BB78-4CF3-94A5-D6C8C1A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4B0-067F-4871-A75B-8D0F9A2D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D82-9030-44B5-8958-4B22D39F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ABCC-2CAF-42A1-8754-39DD811AF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834320" cy="3961080"/>
          </a:xfrm>
          <a:prstGeom prst="rect">
            <a:avLst/>
          </a:prstGeom>
          <a:solidFill>
            <a:srgbClr val="354b3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DICOM and Image Ontology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Image Ontology Workshop 2006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7740720" cy="2133720"/>
          </a:xfrm>
          <a:prstGeom prst="rect">
            <a:avLst/>
          </a:prstGeom>
          <a:solidFill>
            <a:srgbClr val="663300">
              <a:alpha val="90000"/>
            </a:srgbClr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Anand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Kumar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MD, PhD, M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I</a:t>
            </a: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FOMIS, Univ. of Saarland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Siemens Medical Solutions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78000"/>
            <a:ext cx="842472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Study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tudy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tudy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ring-physic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cession-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ysicians-of-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ysicians-reading-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-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rocedure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Series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mod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ter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eries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eries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ing-physic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-performed-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lated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ody-part-exa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atient-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mallest-pixel-value-in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rgest-pixel-value-in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ing-Service-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-start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-start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tocol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413000"/>
            <a:ext cx="7993080" cy="482436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Image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atient-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ntent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ntent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e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quisition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quisition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d-image-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der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ource-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d-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es-in-acquisition (could be put in the acquisition process mo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quality-control-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urned-in-an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ossy-image-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ossy-image-compression-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Pixel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amples-per-pix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otometric-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lum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its-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its-st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high-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lanar-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aspect-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mallest-image-pixel-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rgest-image-pixel-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d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lue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green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d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lue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green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41300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igital Imaging and Communications in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349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Joint standard from American College of Radiolog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National Electronic Manufacturer’s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328464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 standard method for transferring images and assoc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formation between devices manufactured by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429264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ddresses the needs particularly of Radi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utiframe Im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arge number of images can be sent as on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ll attributes equal to all images or their groups sen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odality independent 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odality dependent 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Multiframe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460520"/>
            <a:ext cx="87138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828800"/>
            <a:ext cx="792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58680"/>
            <a:ext cx="70563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654200"/>
            <a:ext cx="8642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at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econdary Ca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Base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Based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adio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linical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What should Image Ontology 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Structure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1341360"/>
            <a:ext cx="799308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Template Specifications which include: Concept Na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quirement, Value Type, Value Multiplicity, Valu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striction, Relationship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9880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341360"/>
            <a:ext cx="367164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1341360"/>
            <a:ext cx="367200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ICOM Image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413000"/>
            <a:ext cx="7993080" cy="2879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Object (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bstraction of a real information ent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.g., CT Image, Structured Report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s acted upon by one or more DICOM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onym of Information Object Definition (I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Basic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50920" y="4437000"/>
            <a:ext cx="7993080" cy="2087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ructured description of a service which is suppo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cooperating DICOM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specific DICOM Commands ac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a specific class of Informatio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341360"/>
            <a:ext cx="7993080" cy="1871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ver the depth to the extent DICOM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Use DICOM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classify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rovide correct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284640"/>
            <a:ext cx="7993080" cy="1871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FMA is a reference ontology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FMA is not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834320" cy="3961080"/>
          </a:xfrm>
          <a:prstGeom prst="rect">
            <a:avLst/>
          </a:prstGeom>
          <a:solidFill>
            <a:srgbClr val="354b3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DICOM and Image Ontology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Image Ontology Workshop 2006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7740720" cy="2133720"/>
          </a:xfrm>
          <a:prstGeom prst="rect">
            <a:avLst/>
          </a:prstGeom>
          <a:solidFill>
            <a:srgbClr val="663300">
              <a:alpha val="90000"/>
            </a:srgbClr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Anand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Kumar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MD, PhD, M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I</a:t>
            </a: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FOMIS, Univ. of Saarland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Siemens Medical Solutions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627120"/>
            <a:ext cx="87854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852640"/>
            <a:ext cx="7993080" cy="22338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site Information Object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additionally include Attributes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related to but not inherent in the real-world ent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Patient Name together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d Tomography Image Information Objec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Information Objec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341360"/>
            <a:ext cx="7993080" cy="136692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ized Information Object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des only those Attributes inhe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real-world entity re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5229360"/>
            <a:ext cx="7993080" cy="136836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es the communication requirements of im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image data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ed data needs to be closely associ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Entity and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8421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7:34:46Z</dcterms:created>
  <dc:creator>Powerpt</dc:creator>
  <dc:description/>
  <dc:language>en-US</dc:language>
  <cp:lastModifiedBy>Anand Kumar</cp:lastModifiedBy>
  <dcterms:modified xsi:type="dcterms:W3CDTF">2006-03-25T00:16:13Z</dcterms:modified>
  <cp:revision>429</cp:revision>
  <dc:subject/>
  <dc:title>Caveats on  Knowledge Discovery and Data Mining (KDDM) for Bio-Terrorism Detection</dc:title>
</cp:coreProperties>
</file>